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BDB-00AF-4BD1-B73D-2FAD4AE5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FBC-498B-471F-867C-62263ECA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E19-3273-4FB3-89E9-F9E9A6D3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BD7-0630-4B63-820C-8FABB445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6A67-080B-4993-825C-399A7AE9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C821-6BE0-4D99-9FF0-B034C8DB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AD83-EC63-4F40-8126-DCFDFD67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41C0-A152-4A2E-BA70-0F39A5FA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7800-69BC-4911-9EDA-9E15E716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3A38-EE10-4D78-8917-40682C36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6E93-4452-45CE-B786-4CB08629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900-232A-444B-A10C-D06C2AB2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3287-345B-477D-97B9-8F40351A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13CF-04FE-4C42-855E-B05842A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37BF-306E-4DD6-AE9F-BCE962EF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5ACE-D4DF-4A91-B358-EF9DBB81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3CF-CBED-413D-BBEC-E96AAB0D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FB35-8A23-4F56-B310-AA8BA2EF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51B7-5F19-4CFA-8D92-377745A9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E11A-22AA-4ED0-971A-09E8968C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3062-CCA9-4015-AABB-E2AF8EE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6C9A4-906A-4EFE-A8AA-E0C7D2CA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18A-828B-41A2-BCE7-6AF64038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8E4B-D56A-4697-8BB8-00422505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960C-B502-4310-AD81-8C59A34C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F5F58-A4A1-4271-830A-17C8660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B9922-FEC9-46E3-B01C-03CF59E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6B4D-E330-453D-90DC-E79CF100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DC1E4-7DF7-4E0D-9C43-4AE95879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2353-2CAE-4917-9A43-AD777871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A270-3EA0-4E80-9022-B403186D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2604D-DA5D-4AC2-A03F-2C0AF7B5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F1C8-3AED-4A3C-9B52-09488216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FD7-5EB1-48B9-83B1-9A1CB717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6A72-342C-4AD8-9CB4-FCE99ACE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8277-BEC9-4E12-8284-33F10414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2EDB0-77AF-4DAE-BDEA-5A2415A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DD073-4E96-41DB-B52F-08BFA0C1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2A48E-EC12-46B6-BFF9-258D659A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1844-BF8C-4DC4-8AA8-FB391710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C7E9-02A6-4D82-902B-A961160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6082-B0A6-4CA5-87FB-8519802E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26E38-1AD6-4A4E-8B18-302EDF9D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DB86-5311-401E-AB0D-A5D80C85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47A-997A-49B3-B1F2-46A062AA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BEDD2-5B50-4135-B012-3888B3B7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2011-1D1E-48A4-9A54-18F45923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C5EA-4ABA-4488-AB1F-3F2CB35D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00F33-DE8F-46DE-8A48-531BD49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30D63-F759-41E8-9181-8C7D0814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0EAC-5996-4F4B-99A8-E6FD5E0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140C4-99B8-4B39-A722-BD824B83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1C91-15D6-4B9D-83A5-49BCEF85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3C0E6-CEC9-444C-A075-6D67A54B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2798-C0B9-46DD-9BC4-079B4D2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936-2F07-4B2B-9324-A7C8BFA1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57D2A-5096-4F2B-B586-2C304090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FDEB5-3803-40D4-9499-B78B6928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B189-1F93-4A08-A840-DE3AF527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A76D-7443-4657-9690-93675220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C13A-8929-41D0-89F8-D571E742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07FF5-EC98-4935-9742-C4CB4907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C73AD-09D1-4B0C-B1F4-09CE4AEA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4A486-669D-458E-BD23-93CC60C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1E8E9-C0C9-42B7-B775-5A82B5A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9E0D3-3262-46B1-A25E-F44F1B5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36A-5602-4716-A02D-BE1EDDE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E866-03CC-4A28-903A-8CC0595A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7D500-7FCB-49EA-A1AB-1BE1B0E4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2E27C-0764-428B-9A5E-0665B01A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1AECD-9244-47E9-8555-5ED99C31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BA601-AB44-4EB9-A3EB-9E59006E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10355-7C15-4E9E-AAB4-A78C688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546E-35A7-4469-B83D-15DD0E3C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B7DFB-184C-46E3-B226-6D9F359B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CD82-7543-4538-88DA-1B591CCA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9D799-D8F8-4D48-9424-0298595F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88F-1ACA-4C1E-96B6-84E2F4F6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1F37E-8EE1-4CD3-A717-A2FBC0F0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292B-5629-4C33-838B-A965389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7CDA8-0A7F-421A-AEA6-7F3AC070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EAF4D-AAAC-48F2-871F-4D538849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04CE2-8352-4002-A07C-719C9AD2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3DB5C-C11F-46F8-975B-C6A7431F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37890-ED64-4DC6-A3CE-481B0A14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38850-D863-4B67-9964-D8567BD4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04684-27A9-4D02-B00D-04F4B7BC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82DCC-9C54-4BD3-BD52-F0B7CD32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1C4-EF74-4460-A565-3A7F9A43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04E36-D859-401B-9D5E-A8AEA1A1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118EC-019E-4B81-B452-8F3E44B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76CBA-0256-4542-B25D-AA570DE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2BB40-9BE4-4B2B-A810-BB179A2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60CCF-77FF-42FE-997D-C2C3E223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73008-8FE5-42BE-AA9D-8E3D9057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DE62C-BC83-4E62-9E8D-2C142B79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8FB2-AC91-4A47-90B0-8AF9E8532AC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31D4-9B90-4900-9C9E-EBD1397C22D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FD21-0E6E-4F28-BD8F-1B972BE2A04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B3B0-6F5E-4AD1-9E52-0335135F65B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DE95-CC61-48AB-87F1-D27AA601995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F481-3204-4110-B452-6F5B90117F0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21C-54C0-4959-8241-00B97158D23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7E5B-0089-4573-A022-AE7D00E66EE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219320"/>
            <a:ext cx="8534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e: genome, gametes, chromatin, chromosome, centromere, kinetochore, checkpoint, Cdk, MP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the longest part of the cell cycle?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the diploid number is 46, the haploid number i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Cell Cycl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: life of a cell from its formation until it divid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44756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Functions of Cell Divis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eproduction, Growth and Tissue Repai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6" descr="12_02_CellDivFunctions-L.jpg"/>
          <p:cNvPicPr/>
          <p:nvPr/>
        </p:nvPicPr>
        <p:blipFill>
          <a:blip r:embed="rId1"/>
          <a:stretch/>
        </p:blipFill>
        <p:spPr>
          <a:xfrm>
            <a:off x="4724280" y="1676520"/>
            <a:ext cx="4219560" cy="458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12_01ChromosomesCellDiv-L.jpg"/>
          <p:cNvPicPr/>
          <p:nvPr/>
        </p:nvPicPr>
        <p:blipFill>
          <a:blip r:embed="rId2"/>
          <a:stretch/>
        </p:blipFill>
        <p:spPr>
          <a:xfrm>
            <a:off x="609480" y="3505320"/>
            <a:ext cx="37339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Genome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= all of a cell’s genetic info (DNA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Prokaryot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single, circular chromosome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Eukaryot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more than one linear chromosom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g. Human:46 chromosomes, mouse: 40, fruit fly: 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76" name="Picture 4" descr="12_03EukChromosomes-L.jpg"/>
          <p:cNvPicPr/>
          <p:nvPr/>
        </p:nvPicPr>
        <p:blipFill>
          <a:blip r:embed="rId1"/>
          <a:stretch/>
        </p:blipFill>
        <p:spPr>
          <a:xfrm>
            <a:off x="2590920" y="3200400"/>
            <a:ext cx="42670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Each chromosome must be duplicated before cell divis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Duplicated chromoso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2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sister chromatid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tached by a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8" descr="12_05ChromoDupliDist_3-L.jpg"/>
          <p:cNvPicPr/>
          <p:nvPr/>
        </p:nvPicPr>
        <p:blipFill>
          <a:blip r:embed="rId1"/>
          <a:stretch/>
        </p:blipFill>
        <p:spPr>
          <a:xfrm>
            <a:off x="4876920" y="2133720"/>
            <a:ext cx="3932280" cy="4511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12_04CondensedChromosome-L.jpg"/>
          <p:cNvPicPr/>
          <p:nvPr/>
        </p:nvPicPr>
        <p:blipFill>
          <a:blip r:embed="rId2"/>
          <a:stretch/>
        </p:blipFill>
        <p:spPr>
          <a:xfrm>
            <a:off x="152280" y="3403440"/>
            <a:ext cx="452124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Somatic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Game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dy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ploid (2n): 2 of each type of chromos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vide by mit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mans: 2n = 4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x cells (sperm/eg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ploid (n): 1 of each type of chromos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vide by mei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mans: n = 2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hases of the Cell Cycle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7" name="Picture 10" descr="12_06CellCycle-L.jpg"/>
          <p:cNvPicPr/>
          <p:nvPr/>
        </p:nvPicPr>
        <p:blipFill>
          <a:blip r:embed="rId1"/>
          <a:stretch/>
        </p:blipFill>
        <p:spPr>
          <a:xfrm>
            <a:off x="1054080" y="1295280"/>
            <a:ext cx="7099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hases of the Cell Cycle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mitoti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hase alternates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464653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S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G</a:t>
            </a:r>
            <a:r>
              <a:rPr b="0" lang="en-US" sz="2800" spc="-1" strike="noStrike" baseline="-25000">
                <a:solidFill>
                  <a:srgbClr val="464653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mitosis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cytokinesi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90% of cell cyc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ell grows and carries out normal function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duplicates chromosom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prepares for cell division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M 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mitotic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itosi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nucleus divid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ytokinesi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ytoplasm divid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itosis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Pro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Meta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Ana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Telo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1" name="Picture 3" descr="12_07_MitosisAnimalCell-L.jpg"/>
          <p:cNvPicPr/>
          <p:nvPr/>
        </p:nvPicPr>
        <p:blipFill>
          <a:blip r:embed="rId1"/>
          <a:stretch/>
        </p:blipFill>
        <p:spPr>
          <a:xfrm>
            <a:off x="380880" y="2743200"/>
            <a:ext cx="85471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Mitosi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ontinuous process with observable structural fea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hromosomes become visible (pro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Alignment at the equator (meta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Separation of sister chromatids (ana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Form two daughter cells (telophase &amp; cytokinesis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94" name="Picture 3" descr="12_07_MitosisAnimalCell-L.jpg"/>
          <p:cNvPicPr/>
          <p:nvPr/>
        </p:nvPicPr>
        <p:blipFill>
          <a:blip r:embed="rId1"/>
          <a:stretch/>
        </p:blipFill>
        <p:spPr>
          <a:xfrm>
            <a:off x="1523880" y="4191120"/>
            <a:ext cx="617220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92040"/>
            <a:ext cx="74674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Prophase &amp; Prometa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" descr="12_07aMitosisAnimalCell-L.jpg"/>
          <p:cNvPicPr/>
          <p:nvPr/>
        </p:nvPicPr>
        <p:blipFill>
          <a:blip r:embed="rId1"/>
          <a:stretch/>
        </p:blipFill>
        <p:spPr>
          <a:xfrm>
            <a:off x="304920" y="1447920"/>
            <a:ext cx="85471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762120" y="392040"/>
            <a:ext cx="74674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Metaphase &amp; Ana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12_07bMitosisAnimalCell-L.jpg"/>
          <p:cNvPicPr/>
          <p:nvPr/>
        </p:nvPicPr>
        <p:blipFill>
          <a:blip r:embed="rId1"/>
          <a:srcRect l="0" t="0" r="33988" b="0"/>
          <a:stretch/>
        </p:blipFill>
        <p:spPr>
          <a:xfrm>
            <a:off x="1447920" y="1447920"/>
            <a:ext cx="62625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the end of mitosis and cytokinesis, how do daughter cells compare with their parent cell when it was in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cell’s DNA was measured at 5 picograms. DNA levels range from 3-6 pgms in the cell cycle .  What stage of the cell cycle is this cell in. How do you know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etaphase, if the haploid number is 3, how many chromatids does this cell ha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Cytokin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Cytoplasm of cell divided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Animal Cell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leavage furrow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Gill Sans MT"/>
              </a:rPr>
              <a:t>Plant Cell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ell plate form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401" name="Picture 2" descr="12_07bMitosisAnimalCell-L.jpg"/>
          <p:cNvPicPr/>
          <p:nvPr/>
        </p:nvPicPr>
        <p:blipFill>
          <a:blip r:embed="rId1"/>
          <a:srcRect l="65814" t="0" r="0" b="0"/>
          <a:stretch/>
        </p:blipFill>
        <p:spPr>
          <a:xfrm>
            <a:off x="5638680" y="609480"/>
            <a:ext cx="35053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Cytokinesis in animal vs. plant cel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4" name="Picture 3" descr="12_10_Cytokinesis-L.jpg"/>
          <p:cNvPicPr/>
          <p:nvPr/>
        </p:nvPicPr>
        <p:blipFill>
          <a:blip r:embed="rId1"/>
          <a:stretch/>
        </p:blipFill>
        <p:spPr>
          <a:xfrm>
            <a:off x="304920" y="1219320"/>
            <a:ext cx="8547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nimal Cell Division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6" name="Picture 1" descr="12_07cMitosisAnimalCell-L.jpg"/>
          <p:cNvPicPr/>
          <p:nvPr/>
        </p:nvPicPr>
        <p:blipFill>
          <a:blip r:embed="rId1"/>
          <a:stretch/>
        </p:blipFill>
        <p:spPr>
          <a:xfrm>
            <a:off x="304920" y="762120"/>
            <a:ext cx="8547120" cy="3170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12_07dMitosisAnimalCell-L.jpg"/>
          <p:cNvPicPr/>
          <p:nvPr/>
        </p:nvPicPr>
        <p:blipFill>
          <a:blip r:embed="rId2"/>
          <a:stretch/>
        </p:blipFill>
        <p:spPr>
          <a:xfrm>
            <a:off x="291960" y="3733920"/>
            <a:ext cx="8547120" cy="30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Plant Cell Division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9" name="Picture 1" descr="12_11_MitosisPlantCell-L.jpg"/>
          <p:cNvPicPr/>
          <p:nvPr/>
        </p:nvPicPr>
        <p:blipFill>
          <a:blip r:embed="rId1"/>
          <a:stretch/>
        </p:blipFill>
        <p:spPr>
          <a:xfrm>
            <a:off x="291960" y="1689120"/>
            <a:ext cx="85471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Which phases of the cell cycle can you identify?</a:t>
            </a:r>
            <a:endParaRPr b="0" lang="en-US" sz="3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173720" cy="53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ring ana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387440"/>
            <a:ext cx="4114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romosomes walked to poles by motor protei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inetochore microtubules shorten at ends as they depolymeriz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4" name="Picture 6" descr="12_09_AnaphaseKinetochore-L.jpg"/>
          <p:cNvPicPr/>
          <p:nvPr/>
        </p:nvPicPr>
        <p:blipFill>
          <a:blip r:embed="rId1"/>
          <a:stretch/>
        </p:blipFill>
        <p:spPr>
          <a:xfrm>
            <a:off x="4419720" y="152280"/>
            <a:ext cx="440676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Bacterial cells divide by 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Binary Fiss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6" name="Picture 3" descr="12_12BinaryFission_4-L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54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ell Cycle Control System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control point where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1" lang="en-US" sz="2800" spc="-1" strike="noStrike">
                <a:solidFill>
                  <a:srgbClr val="00b050"/>
                </a:solidFill>
                <a:latin typeface="Gill Sans MT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ignals regulate the cell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3" descr="12_15MechAnalogyCellCyc-L.jpg"/>
          <p:cNvPicPr/>
          <p:nvPr/>
        </p:nvPicPr>
        <p:blipFill>
          <a:blip r:embed="rId1"/>
          <a:stretch/>
        </p:blipFill>
        <p:spPr>
          <a:xfrm>
            <a:off x="1981080" y="2362320"/>
            <a:ext cx="50054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Major Checkpoint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28240" y="1219320"/>
            <a:ext cx="8839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heckpoi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Most important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Controlled by cell size, growth factors, environment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Go</a:t>
            </a: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”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completes whole cell cycle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Stop</a:t>
            </a: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”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cell enters nondividing state (G</a:t>
            </a:r>
            <a:r>
              <a:rPr b="0" lang="en-US" sz="2600" spc="-1" strike="noStrike" baseline="-25000">
                <a:solidFill>
                  <a:srgbClr val="464653"/>
                </a:solidFill>
                <a:latin typeface="Gill Sans MT"/>
              </a:rPr>
              <a:t>0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Phase)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2" marL="957240" indent="-4629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rve, muscle cells stay at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 liver cells called back from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heckpo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957240" indent="-4629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rolled by DNA replication completion, DNA mutations, cell siz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-spindle (Metaphase) checkpo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eck spindle fiber (microtubule) attachment to chromosomes at kinetochores (anchor sites)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12_16G1Checkpoint-L.jpg"/>
          <p:cNvPicPr/>
          <p:nvPr/>
        </p:nvPicPr>
        <p:blipFill>
          <a:blip r:embed="rId1"/>
          <a:stretch/>
        </p:blipFill>
        <p:spPr>
          <a:xfrm>
            <a:off x="304920" y="1371600"/>
            <a:ext cx="8547120" cy="4700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man Old Style"/>
              </a:rPr>
              <a:t>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Bookman Old Style"/>
              </a:rPr>
              <a:t> Checkpoint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the correct phase of the cell cycle/mitosis for the follow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cells that no longer divide or rarely divide are in this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ster chromatids separate and move apa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totic spindle begins to 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ll plate or cleavage furrow 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re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line up on equatorial pl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clear membrane fo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become visi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M-spindle Checkpoint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Mitotic spindle at meta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5" name="Picture 5" descr="12_08_MitoticSpindle-L.jpg"/>
          <p:cNvPicPr/>
          <p:nvPr/>
        </p:nvPicPr>
        <p:blipFill>
          <a:blip r:embed="rId1"/>
          <a:stretch/>
        </p:blipFill>
        <p:spPr>
          <a:xfrm>
            <a:off x="977760" y="1332000"/>
            <a:ext cx="7328160" cy="484020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5"/>
          <p:cNvGrpSpPr/>
          <p:nvPr/>
        </p:nvGrpSpPr>
        <p:grpSpPr>
          <a:xfrm>
            <a:off x="4800600" y="4419720"/>
            <a:ext cx="4114800" cy="2264040"/>
            <a:chOff x="4800600" y="4419720"/>
            <a:chExt cx="4114800" cy="2264040"/>
          </a:xfrm>
        </p:grpSpPr>
        <p:grpSp>
          <p:nvGrpSpPr>
            <p:cNvPr id="427" name="Left Arrow 6"/>
            <p:cNvGrpSpPr/>
            <p:nvPr/>
          </p:nvGrpSpPr>
          <p:grpSpPr>
            <a:xfrm>
              <a:off x="4800600" y="4620600"/>
              <a:ext cx="1186560" cy="829080"/>
              <a:chOff x="4800600" y="4620600"/>
              <a:chExt cx="1186560" cy="829080"/>
            </a:xfrm>
          </p:grpSpPr>
          <p:pic>
            <p:nvPicPr>
              <p:cNvPr id="428" name="Left Arrow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4620600"/>
                <a:ext cx="118656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5037840" y="4819320"/>
                <a:ext cx="880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TextBox 4"/>
            <p:cNvSpPr/>
            <p:nvPr/>
          </p:nvSpPr>
          <p:spPr>
            <a:xfrm>
              <a:off x="5843520" y="4419720"/>
              <a:ext cx="3071880" cy="2264040"/>
            </a:xfrm>
            <a:prstGeom prst="roundRect">
              <a:avLst>
                <a:gd name="adj" fmla="val 25750"/>
              </a:avLst>
            </a:prstGeom>
            <a:gradFill rotWithShape="0">
              <a:gsLst>
                <a:gs pos="0">
                  <a:srgbClr val="eccec6"/>
                </a:gs>
                <a:gs pos="100000">
                  <a:srgbClr val="eccec6"/>
                </a:gs>
              </a:gsLst>
              <a:lin ang="11700000"/>
            </a:gradFill>
            <a:ln w="38160">
              <a:solidFill>
                <a:srgbClr val="b88472"/>
              </a:solidFill>
              <a:miter/>
            </a:ln>
            <a:effectLst>
              <a:outerShdw dist="12600" dir="54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Gill Sans MT"/>
                </a:rPr>
                <a:t>Kinetochore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= proteins associated with DNA at centrom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12_17_G2Checkpoint-L.jpg"/>
          <p:cNvPicPr/>
          <p:nvPr/>
        </p:nvPicPr>
        <p:blipFill>
          <a:blip r:embed="rId1"/>
          <a:srcRect l="0" t="0" r="0" b="59356"/>
          <a:stretch/>
        </p:blipFill>
        <p:spPr>
          <a:xfrm>
            <a:off x="1828800" y="1219320"/>
            <a:ext cx="6154560" cy="33098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Internal Regulatory Molecul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380880" y="43434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inas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yclin-dependent kinase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protein enzyme controls cell cycle; active when connected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c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ycl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teins which attach to kinases to activate them; levels fluctuate in the 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Internal Regulatory Molecul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304920" y="1219320"/>
            <a:ext cx="84582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7388c"/>
                </a:solidFill>
                <a:uFillTx/>
                <a:latin typeface="Arial"/>
              </a:rPr>
              <a:t>MPF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turation-promot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</a:t>
            </a:r>
            <a:r>
              <a:rPr b="1" lang="en-US" sz="2600" spc="-1" strike="noStrike">
                <a:solidFill>
                  <a:srgbClr val="a7388c"/>
                </a:solidFill>
                <a:latin typeface="Arial"/>
                <a:ea typeface="ＭＳ Ｐゴシック"/>
              </a:rPr>
              <a:t>cyclin-Cdk complex</a:t>
            </a:r>
            <a:r>
              <a:rPr b="0" lang="en-US" sz="2600" spc="-1" strike="noStrike">
                <a:solidFill>
                  <a:srgbClr val="a7388c"/>
                </a:solidFill>
                <a:latin typeface="Arial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allows cells to pass 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go to M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12_17_G2Checkpoint-L.jpg"/>
          <p:cNvPicPr/>
          <p:nvPr/>
        </p:nvPicPr>
        <p:blipFill>
          <a:blip r:embed="rId1"/>
          <a:srcRect l="0" t="38014" r="0" b="0"/>
          <a:stretch/>
        </p:blipFill>
        <p:spPr>
          <a:xfrm>
            <a:off x="2286000" y="2514600"/>
            <a:ext cx="49546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External Regulatory Facto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38" name="Picture 5" descr="12_19_CellDivInhibition-L.jpg"/>
          <p:cNvPicPr/>
          <p:nvPr/>
        </p:nvPicPr>
        <p:blipFill>
          <a:blip r:embed="rId1"/>
          <a:stretch/>
        </p:blipFill>
        <p:spPr>
          <a:xfrm>
            <a:off x="304920" y="1295280"/>
            <a:ext cx="85471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294920"/>
            <a:ext cx="83059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Growth Factor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roteins released by other cells to stimulate cell divi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Density-Dependent Inhibition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wded cells normally stop dividing; cell-surface protein binds to adjoining cell to inhibit grow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chorage Dependence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ls must be attached to another cell or ECM to divi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External Regulatory Facto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Cancer Cell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Cance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disorder in which cells lose the ability to control growth by not responding to regul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ultistep process of about 5-7 genetic changes (for a human) for a cell to transfor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ses anchorage dependency and density-dependency regul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3" name="Group 9"/>
          <p:cNvGrpSpPr/>
          <p:nvPr/>
        </p:nvGrpSpPr>
        <p:grpSpPr>
          <a:xfrm>
            <a:off x="1600200" y="3983040"/>
            <a:ext cx="6464160" cy="2435760"/>
            <a:chOff x="1600200" y="3983040"/>
            <a:chExt cx="6464160" cy="2435760"/>
          </a:xfrm>
        </p:grpSpPr>
        <p:pic>
          <p:nvPicPr>
            <p:cNvPr id="444" name="Picture 5" descr="12_19aCellDivInhibition-L.jpg"/>
            <p:cNvPicPr/>
            <p:nvPr/>
          </p:nvPicPr>
          <p:blipFill>
            <a:blip r:embed="rId1"/>
            <a:srcRect l="0" t="0" r="0" b="25521"/>
            <a:stretch/>
          </p:blipFill>
          <p:spPr>
            <a:xfrm>
              <a:off x="1600200" y="4016880"/>
              <a:ext cx="2971440" cy="20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6" descr="12_19bCellDivInhibition-L.jpg"/>
            <p:cNvPicPr/>
            <p:nvPr/>
          </p:nvPicPr>
          <p:blipFill>
            <a:blip r:embed="rId2"/>
            <a:srcRect l="0" t="0" r="0" b="24511"/>
            <a:stretch/>
          </p:blipFill>
          <p:spPr>
            <a:xfrm>
              <a:off x="4876560" y="3983040"/>
              <a:ext cx="3187800" cy="21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Box 7"/>
            <p:cNvSpPr/>
            <p:nvPr/>
          </p:nvSpPr>
          <p:spPr>
            <a:xfrm>
              <a:off x="1600200" y="6019920"/>
              <a:ext cx="20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rmal Ce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8"/>
            <p:cNvSpPr/>
            <p:nvPr/>
          </p:nvSpPr>
          <p:spPr>
            <a:xfrm>
              <a:off x="4876560" y="6019920"/>
              <a:ext cx="20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ncer Ce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12_20MalignantTumor-L.jpg"/>
          <p:cNvPicPr/>
          <p:nvPr/>
        </p:nvPicPr>
        <p:blipFill>
          <a:blip r:embed="rId1"/>
          <a:stretch/>
        </p:blipFill>
        <p:spPr>
          <a:xfrm>
            <a:off x="1828800" y="3200400"/>
            <a:ext cx="6121440" cy="3444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umors = mass of abnormal cel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Benign tum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lump of cells remain at original 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Malignant tum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invasive - impairs functions of 1+ organs (called canc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Metasta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cells separate from tumor and travel to other parts of b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cancer3.jpg"/>
          <p:cNvPicPr/>
          <p:nvPr/>
        </p:nvPicPr>
        <p:blipFill>
          <a:blip r:embed="rId1"/>
          <a:stretch/>
        </p:blipFill>
        <p:spPr>
          <a:xfrm>
            <a:off x="6146640" y="4191120"/>
            <a:ext cx="2845080" cy="2666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Cancer Prevention</a:t>
            </a: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one can get cancer but there are ways to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minimiz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ris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 smoke, legal or illegal (includes hookahs, chew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hand smok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sun prote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ercise and keep weight at ideal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t 5-7 servings of fruit and veggies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a d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screening/preventative measures-breast/testicle/mole chec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actice abstinence or use condo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ccines (eg. HPV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the difference between plant and animal cell divis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asurements of the DNA amount per nucleus were taken.  DNA levels ranged from 3-6 picograms per nucleus, what stage of the cell cycle are these cells i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nucleus has 3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with 6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binary fissio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we know the cell uses chemical signal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mmarize the cell control syst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 a cancer cell to a normal cell.  What goes wro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3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 sexual to asexual reproduc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/contrast mitosis to meios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the events of meios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3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and compare the 3 sexual life cyc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es random assortment, crossing over and random fertilization contribute to genetic vari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e:  locus, karyotype, alternation of generations, synapsis, tetrad, chiasm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hapter 12: The Cell Cycl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What you must know: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ucture of the duplicated chromoso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cycle and stages of mitos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ole of kinases and cyclin in the regulation of the cell cyc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9:12:23Z</dcterms:created>
  <dc:creator>Jackie</dc:creator>
  <dc:description/>
  <dc:language>en-US</dc:language>
  <cp:lastModifiedBy>local</cp:lastModifiedBy>
  <dcterms:modified xsi:type="dcterms:W3CDTF">2012-10-26T15:07:34Z</dcterms:modified>
  <cp:revision>83</cp:revision>
  <dc:subject/>
  <dc:title>Chapter 12-13 THE CELL CYCLE/MEIOSIS and SEXUAL LIFE CYLES</dc:title>
</cp:coreProperties>
</file>